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ED2-2CEE-4351-9FA6-7CDA4AD5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554-F484-4E0C-83D5-6F50DC6B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6A7-20BE-4910-A5A7-74F253E6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27C-3BC0-4091-8AAB-BC8D51BA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A7C-45F5-4674-9625-7EBDB9C2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355-5341-4E40-A187-8991AA37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A2A0-9276-462D-BD79-E9DD6DF0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065C-761B-426B-812C-E50BF085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4E1-ED21-4884-A5B2-05C19AA2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2AE-0300-417E-8FAB-E80580FC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DA6-1D23-470D-AEA9-AC5EF1AB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67FD-5A6C-41FD-AA4C-89D0D78E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0C78-6517-46E1-9225-AB38BD3E7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shey and Chase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y: Dahlia Malesevic, Alina Dyak, and Michael Galpe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8769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shey and Chase wanted to find out whether protein or DNA was hered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cted two ph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reproduced in separate cel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in the reproduced phages, the sulfur did not appear, but the phosphorous d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wed that DNA is hereditary because it was radio a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S ARE HEREDIT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Using Radioactive tracers to label only the protein in RNA-virus which of the following would you use.</a:t>
            </a: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) Radioactive P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B) Radioactive N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) Radioactive S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D) Radioactive C</a:t>
            </a: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answer is C) Radioactive S because protein contains Sulfur according to the Hershey Chase Experime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4:15Z</dcterms:created>
  <dc:creator>xpstudent</dc:creator>
  <dc:description/>
  <dc:language>en-US</dc:language>
  <cp:lastModifiedBy>xpstudent</cp:lastModifiedBy>
  <dcterms:modified xsi:type="dcterms:W3CDTF">2010-09-23T14:31:32Z</dcterms:modified>
  <cp:revision>4</cp:revision>
  <dc:subject/>
  <dc:title>Hershey and Chase Experiment</dc:title>
</cp:coreProperties>
</file>